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5E7-FDD2-405D-A965-7C03AE5C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EFB-8907-421A-ACEC-556145CC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DFA-5E7A-4C81-AECE-8323FE25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E50A-01B4-4119-9073-0D9328E1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9FF9-725C-4AC7-99C8-FD4FEFB20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3786-F2AC-492F-A5A0-E920E252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327-36A3-4143-8ADD-C94127F4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201F-0709-4A85-9777-4AE946DD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A30E-19E2-459B-B416-2E830897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7C23-D509-43AA-B292-569D11FA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B8C6-FB7A-4F04-8BC2-32C741E2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4A39-5192-466D-AB5F-8562D4BF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C755-2F87-4012-8A75-9163881A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D6C5-9AC3-466C-BA8A-3C023557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0AD2-5C4E-4AE7-A42A-9F399EE0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397D-A372-43B7-869C-42E3CFD6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D9BD-5235-4134-9280-918D42280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4E83A-6046-4A18-937C-D9ABD4CD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53DD-D3CC-4555-8517-4881F634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3316E-F5BB-421C-9BA5-20563B1E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A7BFB-9A42-4FCC-BAFF-378D278D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E587B-868C-4BE0-910E-3B584313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666-B22B-4320-A128-D0BA7691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3FA7-A8A2-4909-932D-42ACA9E2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7FA5-B1A2-47FE-90F9-18929BB9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F124-F206-4FD1-B658-5AB03C8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DE15-1AEC-4131-AD31-09BDD332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335BA-E858-40A3-B9D0-F460F8C5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1DEA8-9264-4BC7-B1DF-252766E4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E416D-7613-4C0C-89CD-AE94E024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71EAA-76A9-45F7-93DC-5B24D98D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4C6C0-100C-41A9-A420-63A0D216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9A77B-E5D4-469D-AEDA-D7993236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02B-2321-4159-BB08-E61E20D0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CD2D1-6848-4E35-BBAF-EC5D8F41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0E16C-89B4-4FFB-A4BD-AEBBBA03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0F3E6-36E4-4AC7-A0C8-CF5EFED0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67584-2AB5-4164-9565-CF69A411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97F0C-E0F7-4D98-ADA0-85615B95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5558D-B3A7-46FE-9AF5-076AE491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37344-200A-4631-B4D8-E5FC6C3A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46092-A113-4A6F-8F09-89D8D642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AC1C6-A0D3-4784-9B70-3388149C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921-82C6-4D89-82B9-CE00E57E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52A-3F5C-4C86-AA93-5530FDD5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6FC-B3CD-4C42-BDA5-F107A010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66F1-DD11-427A-BD17-4822F6CD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DCFF-AEF0-4239-BC84-19830DB3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A811-3C24-454E-AE8A-CCA13CDBBC9C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7BEF-3C9A-478C-931F-B488A676A04E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1B69-E461-43E7-99DC-F6B0CDC962B5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34C4-F7E1-4A24-841F-738073510FFA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ABD9-9624-4478-A0AA-D6C476DA30F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31880" y="2007720"/>
            <a:ext cx="7200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просы организации заявительной аттестации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2014 году</a:t>
            </a:r>
            <a:br>
              <a:rPr sz="36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ации по обязательной аттестации</a:t>
            </a:r>
            <a:br>
              <a:rPr sz="3100"/>
            </a:br>
            <a:r>
              <a:rPr b="0" lang="ru-RU" sz="2800" spc="-1" strike="noStrike">
                <a:solidFill>
                  <a:srgbClr val="c00000"/>
                </a:solidFill>
                <a:latin typeface="Trebuchet MS"/>
              </a:rPr>
              <a:t>        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-360" y="331560"/>
            <a:ext cx="8962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Министерство образования и науки Республики Татарстан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Скругленный прямоугольник 15"/>
          <p:cNvSpPr/>
          <p:nvPr/>
        </p:nvSpPr>
        <p:spPr>
          <a:xfrm>
            <a:off x="4067280" y="4343400"/>
            <a:ext cx="4208400" cy="1523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8" descr="Герб Республики Татарстан"/>
          <p:cNvPicPr/>
          <p:nvPr/>
        </p:nvPicPr>
        <p:blipFill>
          <a:blip r:embed="rId1"/>
          <a:stretch/>
        </p:blipFill>
        <p:spPr>
          <a:xfrm>
            <a:off x="324000" y="147600"/>
            <a:ext cx="834840" cy="758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http://mon.tatarstan.ru/file/3.10.13%20%D0%92%D0%B8%D0%B4%20%D0%BD%D0%B0%20%D0%9A%D1%80%D0%B5%D0%BC%D0%BB%D1%8C_%D0%BC%D0%B8%D0%BD%20%D0%BE%D0%B1%D1%80%D0%B0%D0%B7_4578_.jpg"/>
          <p:cNvPicPr/>
          <p:nvPr/>
        </p:nvPicPr>
        <p:blipFill>
          <a:blip r:embed="rId2"/>
          <a:stretch/>
        </p:blipFill>
        <p:spPr>
          <a:xfrm>
            <a:off x="2232000" y="4287960"/>
            <a:ext cx="42480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281960" y="394200"/>
            <a:ext cx="7383600" cy="454320"/>
          </a:xfrm>
          <a:prstGeom prst="rect">
            <a:avLst/>
          </a:prstGeom>
          <a:noFill/>
          <a:ln w="25560">
            <a:solidFill>
              <a:srgbClr val="54a021"/>
            </a:solidFill>
            <a:round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rebuchet MS"/>
              </a:rPr>
              <a:t>Министерство образования и науки Республики Татарста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Номер слайда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E9D4-ACBC-478F-9CF6-4038F456108E}" type="slidenum">
              <a:rPr b="0" lang="ru-RU" sz="9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24" descr="users2.png"/>
          <p:cNvPicPr/>
          <p:nvPr/>
        </p:nvPicPr>
        <p:blipFill>
          <a:blip r:embed="rId1"/>
          <a:stretch/>
        </p:blipFill>
        <p:spPr>
          <a:xfrm>
            <a:off x="1047600" y="224460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3" descr="user3.png"/>
          <p:cNvPicPr/>
          <p:nvPr/>
        </p:nvPicPr>
        <p:blipFill>
          <a:blip r:embed="rId2"/>
          <a:stretch/>
        </p:blipFill>
        <p:spPr>
          <a:xfrm>
            <a:off x="1498680" y="2378160"/>
            <a:ext cx="433440" cy="3603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33" descr="businessmen.png"/>
          <p:cNvPicPr/>
          <p:nvPr/>
        </p:nvPicPr>
        <p:blipFill>
          <a:blip r:embed="rId3"/>
          <a:stretch/>
        </p:blipFill>
        <p:spPr>
          <a:xfrm>
            <a:off x="6958080" y="2341440"/>
            <a:ext cx="536400" cy="536760"/>
          </a:xfrm>
          <a:prstGeom prst="rect">
            <a:avLst/>
          </a:prstGeom>
          <a:ln w="0">
            <a:noFill/>
          </a:ln>
        </p:spPr>
      </p:pic>
      <p:sp>
        <p:nvSpPr>
          <p:cNvPr id="248" name="Скругленный прямоугольник 15"/>
          <p:cNvSpPr/>
          <p:nvPr/>
        </p:nvSpPr>
        <p:spPr>
          <a:xfrm>
            <a:off x="5838840" y="2819520"/>
            <a:ext cx="2590920" cy="896760"/>
          </a:xfrm>
          <a:prstGeom prst="roundRect">
            <a:avLst>
              <a:gd name="adj" fmla="val 16667"/>
            </a:avLst>
          </a:prstGeom>
          <a:solidFill>
            <a:srgbClr val="c0e474"/>
          </a:solidFill>
          <a:ln w="9360">
            <a:solidFill>
              <a:srgbClr val="99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и Министерстве по делам молодежи, спорту и туризму 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15"/>
          <p:cNvSpPr/>
          <p:nvPr/>
        </p:nvSpPr>
        <p:spPr>
          <a:xfrm>
            <a:off x="3060720" y="2790720"/>
            <a:ext cx="2495520" cy="757440"/>
          </a:xfrm>
          <a:prstGeom prst="roundRect">
            <a:avLst>
              <a:gd name="adj" fmla="val 16667"/>
            </a:avLst>
          </a:prstGeom>
          <a:solidFill>
            <a:srgbClr val="c0e474"/>
          </a:solidFill>
          <a:ln w="9360">
            <a:solidFill>
              <a:srgbClr val="99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и Министерстве культуры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23" descr="user3.png"/>
          <p:cNvPicPr/>
          <p:nvPr/>
        </p:nvPicPr>
        <p:blipFill>
          <a:blip r:embed="rId4"/>
          <a:stretch/>
        </p:blipFill>
        <p:spPr>
          <a:xfrm>
            <a:off x="3938760" y="2327400"/>
            <a:ext cx="392040" cy="39996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23" descr="user3.png"/>
          <p:cNvPicPr/>
          <p:nvPr/>
        </p:nvPicPr>
        <p:blipFill>
          <a:blip r:embed="rId5"/>
          <a:stretch/>
        </p:blipFill>
        <p:spPr>
          <a:xfrm>
            <a:off x="6607080" y="2411280"/>
            <a:ext cx="505080" cy="417600"/>
          </a:xfrm>
          <a:prstGeom prst="rect">
            <a:avLst/>
          </a:prstGeom>
          <a:ln w="0">
            <a:noFill/>
          </a:ln>
        </p:spPr>
      </p:pic>
      <p:sp>
        <p:nvSpPr>
          <p:cNvPr id="252" name="Скругленный прямоугольник 15"/>
          <p:cNvSpPr/>
          <p:nvPr/>
        </p:nvSpPr>
        <p:spPr>
          <a:xfrm>
            <a:off x="600120" y="2778120"/>
            <a:ext cx="2179440" cy="1079640"/>
          </a:xfrm>
          <a:prstGeom prst="roundRect">
            <a:avLst>
              <a:gd name="adj" fmla="val 16667"/>
            </a:avLst>
          </a:prstGeom>
          <a:solidFill>
            <a:srgbClr val="c0e474"/>
          </a:solidFill>
          <a:ln w="9360">
            <a:solidFill>
              <a:srgbClr val="99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и Министерстве здравоохранения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3"/>
          <p:cNvSpPr/>
          <p:nvPr/>
        </p:nvSpPr>
        <p:spPr>
          <a:xfrm>
            <a:off x="2195640" y="1295280"/>
            <a:ext cx="5030640" cy="582840"/>
          </a:xfrm>
          <a:prstGeom prst="roundRect">
            <a:avLst>
              <a:gd name="adj" fmla="val 16667"/>
            </a:avLst>
          </a:prstGeom>
          <a:solidFill>
            <a:srgbClr val="c0e47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ттестационная коми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 и Н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 стрелкой 8"/>
          <p:cNvCxnSpPr/>
          <p:nvPr/>
        </p:nvCxnSpPr>
        <p:spPr>
          <a:xfrm flipH="1" flipV="1">
            <a:off x="2382120" y="1877760"/>
            <a:ext cx="11880" cy="90072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5" name="Прямая со стрелкой 70"/>
          <p:cNvCxnSpPr/>
          <p:nvPr/>
        </p:nvCxnSpPr>
        <p:spPr>
          <a:xfrm flipH="1" flipV="1">
            <a:off x="4330440" y="1874160"/>
            <a:ext cx="18000" cy="82764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256" name="Рисунок 24" descr="users2.png"/>
          <p:cNvPicPr/>
          <p:nvPr/>
        </p:nvPicPr>
        <p:blipFill>
          <a:blip r:embed="rId6"/>
          <a:stretch/>
        </p:blipFill>
        <p:spPr>
          <a:xfrm>
            <a:off x="4432320" y="2305080"/>
            <a:ext cx="538200" cy="465120"/>
          </a:xfrm>
          <a:prstGeom prst="rect">
            <a:avLst/>
          </a:prstGeom>
          <a:ln w="0">
            <a:noFill/>
          </a:ln>
        </p:spPr>
      </p:pic>
      <p:cxnSp>
        <p:nvCxnSpPr>
          <p:cNvPr id="257" name="Прямая со стрелкой 113"/>
          <p:cNvCxnSpPr/>
          <p:nvPr/>
        </p:nvCxnSpPr>
        <p:spPr>
          <a:xfrm flipV="1">
            <a:off x="4431960" y="872280"/>
            <a:ext cx="1080" cy="40716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58" name="Прямая со стрелкой 116"/>
          <p:cNvCxnSpPr/>
          <p:nvPr/>
        </p:nvCxnSpPr>
        <p:spPr>
          <a:xfrm flipV="1">
            <a:off x="6580080" y="1866600"/>
            <a:ext cx="15120" cy="962640"/>
          </a:xfrm>
          <a:prstGeom prst="straightConnector1">
            <a:avLst/>
          </a:prstGeom>
          <a:ln cap="rnd" w="255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259" name="Picture 18" descr="Герб Республики Татарстан"/>
          <p:cNvPicPr/>
          <p:nvPr/>
        </p:nvPicPr>
        <p:blipFill>
          <a:blip r:embed="rId7"/>
          <a:stretch/>
        </p:blipFill>
        <p:spPr>
          <a:xfrm>
            <a:off x="276120" y="220680"/>
            <a:ext cx="82260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D831-AEE2-4DCB-A91E-E7BABF4C8D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696080" cy="104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734544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Trebuchet MS"/>
              </a:rPr>
              <a:t>Для МО и Н РТ: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0033cc"/>
                </a:solidFill>
                <a:latin typeface="Trebuchet MS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перевод процедур педагогической аттестации в режим Интернет-технологий в информационной системе «Электронное образование</a:t>
            </a:r>
            <a:r>
              <a:rPr b="1" lang="ru-RU" sz="2700" spc="-1" strike="noStrike">
                <a:solidFill>
                  <a:srgbClr val="7030a0"/>
                </a:solidFill>
                <a:latin typeface="Trebuchet MS"/>
              </a:rPr>
              <a:t>»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Trebuchet MS"/>
              </a:rPr>
              <a:t>Для ОУ: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- Организовать в ОУ проведение  методических семинаров, педсоветов по совершенствованию  ведущих  профессиональных компетенций в рамках нового порядка аттестации</a:t>
            </a:r>
            <a:r>
              <a:rPr b="1" lang="ru-RU" sz="2700" spc="-1" strike="noStrike">
                <a:solidFill>
                  <a:srgbClr val="0033cc"/>
                </a:solidFill>
                <a:latin typeface="Trebuchet MS"/>
              </a:rPr>
              <a:t>, </a:t>
            </a:r>
            <a:r>
              <a:rPr b="1" lang="ru-RU" sz="2700" spc="-1" strike="noStrike">
                <a:solidFill>
                  <a:srgbClr val="ff0000"/>
                </a:solidFill>
                <a:latin typeface="Trebuchet MS"/>
              </a:rPr>
              <a:t>проведение аттестацию на СЗД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468360" y="189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 на 2014 /2015 учебный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B7D6-0F21-4038-8CD5-367762B8C4C1}" type="slidenum">
              <a:rPr b="0" lang="ru-RU" sz="9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920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8E8D-4B46-4C7B-A398-8A42442A5D1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900000" y="189000"/>
            <a:ext cx="7272360" cy="605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каз МО и Н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07 апреля 2014 г. №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«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 порядке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дагогических 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й, осуществл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ую  деятельность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324000" y="49536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Федеральные документы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6C53-0662-4E4B-95DF-4FFAF61A236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79280" y="18432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каз  Министерства здравоохра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социального развития   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26 августа 2010 г.  №761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Об утверждении Еди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го справ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уководителей, специалистов и служащ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аздел «Квалификационные характерис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должностей работников образования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539640" y="260280"/>
            <a:ext cx="81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04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7640" y="1125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24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24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Письмо Департамента общего образования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24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МО и Н РФ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Trebuchet MS"/>
              </a:rPr>
              <a:t>от 27.02.2012 г.№ 03-109 </a:t>
            </a:r>
            <a:r>
              <a:rPr b="0" lang="ru-RU" sz="2800" spc="-1" strike="noStrike">
                <a:solidFill>
                  <a:srgbClr val="0000ff"/>
                </a:solidFill>
                <a:latin typeface="Trebuchet MS"/>
              </a:rPr>
              <a:t>«О повышении квалификации и аттестации педагогических работников</a:t>
            </a: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2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24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26AD-9A54-474A-A25D-5C0CE289C73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179280" y="260280"/>
            <a:ext cx="864072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ва вида аттестации для педаг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1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 целью под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занимаемой дол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 уровне 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2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ля установления соответ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ровня квалификации треб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Заголовок 2"/>
          <p:cNvSpPr/>
          <p:nvPr/>
        </p:nvSpPr>
        <p:spPr>
          <a:xfrm>
            <a:off x="395280" y="476280"/>
            <a:ext cx="8516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Изменения в порядке 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3306-123C-4874-BF80-F42820326F7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179280" y="260280"/>
            <a:ext cx="813780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ОБЯЗАТЕЛЬНАЯ  АТТЕС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ттестация с целью под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оответствия  занимаемой долж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водится п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дставлению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дин раз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5 лет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в отношении те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 кого нет квалификационных катег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Процедура аттестац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ценка профессиональн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(оценка знаний в письменной форм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Заголовок 2"/>
          <p:cNvSpPr/>
          <p:nvPr/>
        </p:nvSpPr>
        <p:spPr>
          <a:xfrm>
            <a:off x="395280" y="476280"/>
            <a:ext cx="8516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5388-6652-47AE-8E91-4E1E7CDC8CA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108000" y="16992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каз работника от прох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ттестации с целью подтвер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занима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олжности является  наруш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трудовой дисциплины, влекущее за соб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исциплинарные взыскания в соответств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  статьей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92 Т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Заголовок 2"/>
          <p:cNvSpPr/>
          <p:nvPr/>
        </p:nvSpPr>
        <p:spPr>
          <a:xfrm>
            <a:off x="366840" y="120600"/>
            <a:ext cx="85168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ТВЕТСТВЕННОСТЬ РАБОТ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C918-B12E-41F2-8DF0-72117DCC4B2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"/>
          <p:cNvSpPr/>
          <p:nvPr/>
        </p:nvSpPr>
        <p:spPr>
          <a:xfrm>
            <a:off x="108000" y="169920"/>
            <a:ext cx="813600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ТВЕТСТВЕННОСТЬ  РАБОТОД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а своевременное пр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аттестации с целью подтвер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 занимаемой дол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абот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Заголовок 2"/>
          <p:cNvSpPr/>
          <p:nvPr/>
        </p:nvSpPr>
        <p:spPr>
          <a:xfrm>
            <a:off x="366840" y="120600"/>
            <a:ext cx="85168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D2E7-9FFC-40CD-8692-188D8657D2AA}" type="slidenum">
              <a:rPr b="0" lang="ru-RU" sz="9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br>
              <a:rPr sz="1600"/>
            </a:b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Федеральный Закон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900" spc="-1" strike="noStrike" u="sng">
                <a:solidFill>
                  <a:srgbClr val="ff0000"/>
                </a:solidFill>
                <a:uFillTx/>
                <a:latin typeface="Times New Roman"/>
              </a:rPr>
              <a:t>«Об образовании в Российской Федерации»</a:t>
            </a: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3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татья 49.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тестация педагогических работников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22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. 3 статьи 49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аттестация педагогических работников осуществляется уполномоченными органами государственной власти субъектов Российской Федерации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57DF-5FDB-4CF2-90BD-B06867264BE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6841-BD93-48AF-8E3F-25571F7AFD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108000" y="16992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 подлежат аттестации работ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меющие квалификационные категор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оработавшие в должности мене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лет 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рганиза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беременные женщины, либо находящи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 отпуске по беременности  и родам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уходу за ребенком до 3-х л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отсутствовавшие на рабоч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есте более 4-х месяце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Заголовок 2"/>
          <p:cNvSpPr/>
          <p:nvPr/>
        </p:nvSpPr>
        <p:spPr>
          <a:xfrm>
            <a:off x="366840" y="120600"/>
            <a:ext cx="7877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ЯЗАТЕЛЬНАЯ 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04E5-64E1-4D6B-87FF-5E12CA3917C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108000" y="16992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х аттестация возмож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о п. 1. не ранее,  чем через 2 года по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их выхода с от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о п.2. не ране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чем через год после выхода их на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Заголовок 2"/>
          <p:cNvSpPr/>
          <p:nvPr/>
        </p:nvSpPr>
        <p:spPr>
          <a:xfrm>
            <a:off x="366840" y="120600"/>
            <a:ext cx="851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РОК ИХ 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8258-28C8-43EB-AEFB-FEE3409B975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250920" y="631800"/>
            <a:ext cx="7805520" cy="562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Segoe UI"/>
              </a:rPr>
              <a:t>Перенос сроков аттестации в пределах 1 год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болезни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( больничный лист, справк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если срок категории истек во время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тпуска до 1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или зарубежной командировки (стажировки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если работник перешел в год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на новое место работы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связи с сокрашением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если работник завершает обучение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ВУЗе, СС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Заголовок 2"/>
          <p:cNvSpPr/>
          <p:nvPr/>
        </p:nvSpPr>
        <p:spPr>
          <a:xfrm>
            <a:off x="366840" y="120600"/>
            <a:ext cx="85168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ЯЗАТЕЛЬНАЯ АТТЕС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EBA9-F7C9-4EFA-8D8A-33304F09CAD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179280" y="353880"/>
            <a:ext cx="8713800" cy="633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РГАНИЗАЦИЯ ОБЯЗАТЕЛЬ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 этап: Подготовка работод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ставлений на аттестуемых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 этап: 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издание приказа в О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3 этап: определение  графика проведения аттес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4 этап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: Провед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ценки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5B7A-60D1-488D-98F7-FB51C818026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179280" y="18900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РГАНИЗАЦИЯ ОБЯЗАТЕЛЬНОЙ АТТЕС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5 этап: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ведение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 этап: Оформлени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токола в день пр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7 этап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дач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ыпис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з протокола (не позднее 2 рабочих дн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8этап. Работодател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накомит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с выпи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течение 3 – х рабочих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(передает протокол для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личном деле работн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326F-2162-40D1-B6AC-16D2F16300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08080" y="13644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ценка профессиональных знаний аттестуемых в 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одятся аттестационной комиссии  по граф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едущая форма 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стирование  в присутствии коми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Альтернативные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ешение педагогических 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составление конспекта урока (занят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0BDE-AFD1-41E2-BB43-41860D69BE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208080" y="13644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Методика  оценки квалиф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валификация- совокупнос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6 основных компетент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бласти личностны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в   постановке   целей   и  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мотивировании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разработке программы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и принятии педагоги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  в     обеспечении     информ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сновы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рганизации педагогической деятельност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Заголовок 2"/>
          <p:cNvSpPr/>
          <p:nvPr/>
        </p:nvSpPr>
        <p:spPr>
          <a:xfrm>
            <a:off x="476280" y="1047600"/>
            <a:ext cx="8516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43FD-426C-47C2-91A7-401F5C9189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179280" y="333360"/>
            <a:ext cx="8713800" cy="602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РЯДОК ПР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аксимальное время для напис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онспекта урока (занятия)  -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дагог  имеет  при себ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боч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грамму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, гелевую ручку, 10 л. бума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чебник (хрестоматии, сборники задач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дагогу предлага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нстру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(структура конспекта, критерии, требовани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B69E-9DD0-4410-B93E-C2ABEA5014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3"/>
          <p:cNvSpPr/>
          <p:nvPr/>
        </p:nvSpPr>
        <p:spPr>
          <a:xfrm>
            <a:off x="179280" y="18900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РЯДОК ПРОВЕДЕНИ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нформация о сроках и месте пр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ценки знаний сообщается работник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 меся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ботодатель издает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каз о проведении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оценки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ботни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ормирует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аттестационную комиссию о форм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мете, классе, рабочей програм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назначенный день работни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ста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нспект урока (занятия) на бумагоносит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присутствии экспертов –членов экспертной комис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ему урок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лагает комиссия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з числа 10 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изучению нового материала, указ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рабочей програм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AB37-6FBA-456D-9726-81443731503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/>
          <p:cNvSpPr/>
          <p:nvPr/>
        </p:nvSpPr>
        <p:spPr>
          <a:xfrm>
            <a:off x="179280" y="18900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ОРЯДОК ПРОВЕД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ред началом процедуры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и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штампуются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завершении консп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редаются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верку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членам коми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результатам провер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-  оформля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окол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( в 2-х экз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Номер слайда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D794-7246-46E9-AEA0-99B6F55622D1}" type="slidenum">
              <a:rPr b="0" lang="ru-RU" sz="9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2560" y="115920"/>
            <a:ext cx="90010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акон Республики Татарстан </a:t>
            </a:r>
            <a:br>
              <a:rPr sz="32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т 22 июля 2013 г. № 68-ЗРТ "Об образовании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"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483920"/>
            <a:ext cx="8712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п. 4 статьи 4</a:t>
            </a:r>
            <a:r>
              <a:rPr b="1" lang="ru-RU" sz="2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 исполнительной власти Республики Татарстан, осуществляющий государственное управление в сфере образования проводит аттестацию в целях установления квалификационной категории педагогических работников организаций, осуществляющих образовательную деятельность и находящихся в ведении Республики Татарстан, педагогических работников муниципальных и частных организаций, осуществляющих образовательную деятельность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EF3E-201E-4F80-B8C5-F0E3E6CBFB5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D49C-892B-47A0-AB72-6590C29C7D9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"/>
          <p:cNvSpPr/>
          <p:nvPr/>
        </p:nvSpPr>
        <p:spPr>
          <a:xfrm>
            <a:off x="900000" y="189000"/>
            <a:ext cx="7272360" cy="605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каз МО и Н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07 апреля 2014 г. №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«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 порядке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дагогических 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ганизаций, осуществл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ую  деятельность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324000" y="49536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Федеральные документы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8B52-C088-4BB4-9F5E-1AC18A13018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324000" y="260280"/>
            <a:ext cx="8461080" cy="600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Заголовок 2"/>
          <p:cNvSpPr/>
          <p:nvPr/>
        </p:nvSpPr>
        <p:spPr>
          <a:xfrm>
            <a:off x="395280" y="76500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ттестация для присвоения квалификационных категорий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95280" y="198900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оди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заявлению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едагогических работников  до истечения срока  имеющейся квалификационной категории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осрочная аттестация  разрешается через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 год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сле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ыдущей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Процедура аттестации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экспертная 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0002-F4E8-47CE-B02C-05C71F69596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179280" y="189000"/>
            <a:ext cx="8605800" cy="629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 для присвоения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первой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табильные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своения обучающимися образовательных програм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-выявления развития у обучающихся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 научной (интеллектуальной), творческой, физкультур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портив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личного вклада в повышение качества образ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овершенствования методов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ранслирования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в педагогических коллективах опы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практических результатов своей професс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активного участия в работе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тод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бъединений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Заголовок 2"/>
          <p:cNvSpPr/>
          <p:nvPr/>
        </p:nvSpPr>
        <p:spPr>
          <a:xfrm>
            <a:off x="395280" y="404640"/>
            <a:ext cx="85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39D2-4FAB-483E-915D-C31BA7FC8F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324000" y="189000"/>
            <a:ext cx="8461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для присвоения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сше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наличие  первой катег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участие воспитаннико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сероссийских олимпиад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нкурсах, соревнованиях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транслирования в педагогических коллекти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опыта практически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ктивное распространение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нновационного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 повышению  качества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именталь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E91C-51EE-4B1F-96F4-4A03D9E0E8A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"/>
          <p:cNvSpPr/>
          <p:nvPr/>
        </p:nvSpPr>
        <p:spPr>
          <a:xfrm>
            <a:off x="293760" y="174600"/>
            <a:ext cx="8461440" cy="654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UI Semibold"/>
              </a:rPr>
              <a:t>Работник </a:t>
            </a:r>
            <a:r>
              <a:rPr b="1" lang="ru-RU" sz="2400" spc="-1" strike="noStrike">
                <a:solidFill>
                  <a:srgbClr val="0000ff"/>
                </a:solidFill>
                <a:latin typeface="Segoe UI Semibold"/>
              </a:rPr>
              <a:t>подает в комиссию </a:t>
            </a:r>
            <a:r>
              <a:rPr b="1" lang="ru-RU" sz="2400" spc="-1" strike="noStrike">
                <a:solidFill>
                  <a:srgbClr val="ff0000"/>
                </a:solidFill>
                <a:latin typeface="Segoe UI Semibold"/>
              </a:rPr>
              <a:t>через ЭО</a:t>
            </a:r>
            <a:r>
              <a:rPr b="1" lang="ru-RU" sz="2400" spc="-1" strike="noStrike">
                <a:solidFill>
                  <a:srgbClr val="0000ff"/>
                </a:solidFill>
                <a:latin typeface="Segoe UI Semi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аявление по установлен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правка о профессиональном тестиро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в 2014 году работник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ошел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ранее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Копия аттестационного листа или друг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окумента по итогам предыдуще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л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ысшей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отовя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ы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 аттестуемого работник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Экспертное заключение, эксперт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еречень документов при аттестации на категорию (первую  или высшую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029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 u="sng">
                <a:solidFill>
                  <a:srgbClr val="000000"/>
                </a:solidFill>
                <a:uFillTx/>
                <a:latin typeface="Trebuchet MS"/>
              </a:rPr>
              <a:t>Тестирование проводился </a:t>
            </a:r>
            <a:br>
              <a:rPr sz="2800"/>
            </a:b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- с 2009 по 2014 год - в формате  </a:t>
            </a: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ЕГЭ, ЕРЭ</a:t>
            </a:r>
            <a:br>
              <a:rPr sz="2600"/>
            </a:b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9900ff"/>
                </a:solidFill>
                <a:latin typeface="Trebuchet MS"/>
              </a:rPr>
              <a:t>-  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Trebuchet MS"/>
              </a:rPr>
              <a:t>в РЦМКО </a:t>
            </a: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Trebuchet MS"/>
              </a:rPr>
              <a:t>остальные работники – через компьютерное тестирование</a:t>
            </a: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Trebuchet MS"/>
              </a:rPr>
              <a:t>В 2015 году </a:t>
            </a: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Trebuchet MS"/>
              </a:rPr>
              <a:t> все </a:t>
            </a:r>
            <a:r>
              <a:rPr b="0" lang="ru-RU" sz="2600" spc="-1" strike="noStrike">
                <a:solidFill>
                  <a:srgbClr val="0000ff"/>
                </a:solidFill>
                <a:latin typeface="Trebuchet MS"/>
              </a:rPr>
              <a:t>педагоги будут проходить тестирование в системе «Электронное образование» после подачи заявления </a:t>
            </a:r>
            <a:br>
              <a:rPr sz="2600"/>
            </a:br>
            <a:br>
              <a:rPr sz="2800"/>
            </a:b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676908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Зачетный минимум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2448000" y="1989000"/>
            <a:ext cx="6696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6b91e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rebuchet MS"/>
              </a:rPr>
              <a:t>На первую категорию –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70</a:t>
            </a:r>
            <a:r>
              <a:rPr b="0" lang="ru-RU" sz="1800" spc="-1" strike="noStrike">
                <a:solidFill>
                  <a:srgbClr val="0000ff"/>
                </a:solidFill>
                <a:latin typeface="Trebuchet MS"/>
              </a:rPr>
              <a:t> балло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6b91e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6b91e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rebuchet MS"/>
              </a:rPr>
              <a:t>На высшую категорию –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80</a:t>
            </a:r>
            <a:r>
              <a:rPr b="0" lang="ru-RU" sz="1800" spc="-1" strike="noStrike">
                <a:solidFill>
                  <a:srgbClr val="0000ff"/>
                </a:solidFill>
                <a:latin typeface="Trebuchet MS"/>
              </a:rPr>
              <a:t> балло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e6b91e"/>
              </a:buClr>
              <a:buSzPct val="80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 нехватке -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балла </a:t>
            </a:r>
            <a:r>
              <a:rPr b="1" i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авляются автоматическ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E0EE-4DCC-476B-9C89-9776DA6588E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235D-97BA-4D39-A1FF-7E14BBC9C2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395280" y="333360"/>
            <a:ext cx="8280360" cy="626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2014 году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с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итываются за последние 5 л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FB0F-6999-4386-9FD3-1B167EE8330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РГАНИЗ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ЗАЯВИТЕЛЬ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АТТЕС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2014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94B6-F172-47E2-8BE8-1C12189302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РГАНИЗАЦИЯ ЗАЯВИТЕЛЬНОЙ АТТЕСТАЦИИ 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. Предварительный этап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рохождение работник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офесс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естирования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компьютерного или в формате ЕГЭ) С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дач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явления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на аттест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то прошел в 2010 году)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одготовка для экспертов листа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. Подача документов через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Издание приказа МО и Н РТ о про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Проведе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из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по месту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уемого педагог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Заполнение экспертных заключений в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6. Проведение заседания АК МОиН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Изда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каза МОиН РТ об итогах аттест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оформление и выдача аттестационных листов отмен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омер слайда 1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6281-BFF6-4432-B4B2-846833CCB623}" type="slidenum">
              <a:rPr b="0" lang="ru-RU" sz="9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2560" y="115920"/>
            <a:ext cx="900108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ложение о Министерстве образования и науки Республики Татарстан"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1483920"/>
            <a:ext cx="8712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ред. Постановлений КМ РТ  от 23.01.2014 №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3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. 3. Функции Министерства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270080" indent="-469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тестация педагогических работников образовательных организаций Республики Татарстан и муниципальных образовательных организаций, расположенных на территории Республики Татарста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2" marL="1270080" indent="-4698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0C14-FFE1-4067-AA2A-7F374B7BAF3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7193-E835-4CC9-92F7-9A54F7425B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611280" y="382680"/>
            <a:ext cx="806616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лгоритм проведения эксперти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определяют состав  экспертных груп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для утверждения приказом МО и Н РТ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(направить по почте предложени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Независимые эксперты проводят эксперти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профессиональных результатов, анализиру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уроки, сопоставляют  свои выводы с листом самооцен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аттестуемого  педагога, готовят эксперт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заключение; экспертный ли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3. 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контролируют оформл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экспертного заключения  в ИС передают копии экспертного лис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в МОиН РТ для опла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ff"/>
                </a:solidFill>
                <a:latin typeface="Times New Roman"/>
              </a:rPr>
              <a:t>На 2015 год  муниципалы и ОО должн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ff"/>
                </a:solidFill>
                <a:latin typeface="Times New Roman"/>
              </a:rPr>
              <a:t>включить в свой бюджет оплату экспер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1D2B-AA6C-46D1-A0CB-8C9FC54831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65120" y="260280"/>
            <a:ext cx="777888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Экспертиза из 2 блоков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7848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мониторинг результатов (п.3.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ЕГЭ, ЕРЭ     тестирование  олимпиады      внутренний контроль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аттестационная   экспертиз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самооценка       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33cc"/>
                </a:solidFill>
                <a:latin typeface="Times New Roman"/>
              </a:rPr>
              <a:t>экспертная оценк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cxnSp>
        <p:nvCxnSpPr>
          <p:cNvPr id="341" name="Прямая со стрелкой 4"/>
          <p:cNvCxnSpPr/>
          <p:nvPr/>
        </p:nvCxnSpPr>
        <p:spPr>
          <a:xfrm>
            <a:off x="1082160" y="2200320"/>
            <a:ext cx="1080" cy="50400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2" name="Прямая соединительная линия 13"/>
          <p:cNvSpPr/>
          <p:nvPr/>
        </p:nvSpPr>
        <p:spPr>
          <a:xfrm flipV="1">
            <a:off x="1082520" y="2176200"/>
            <a:ext cx="4641840" cy="28440"/>
          </a:xfrm>
          <a:prstGeom prst="line">
            <a:avLst/>
          </a:prstGeom>
          <a:ln cap="rnd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Прямая со стрелкой 19"/>
          <p:cNvCxnSpPr/>
          <p:nvPr/>
        </p:nvCxnSpPr>
        <p:spPr>
          <a:xfrm>
            <a:off x="3634920" y="2217240"/>
            <a:ext cx="1080" cy="50580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4" name="Прямая со стрелкой 20"/>
          <p:cNvCxnSpPr/>
          <p:nvPr/>
        </p:nvCxnSpPr>
        <p:spPr>
          <a:xfrm>
            <a:off x="5724000" y="2200320"/>
            <a:ext cx="1080" cy="50544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5" name="Прямая соединительная линия 24"/>
          <p:cNvSpPr/>
          <p:nvPr/>
        </p:nvSpPr>
        <p:spPr>
          <a:xfrm>
            <a:off x="773280" y="4508640"/>
            <a:ext cx="1860480" cy="0"/>
          </a:xfrm>
          <a:prstGeom prst="line">
            <a:avLst/>
          </a:prstGeom>
          <a:ln cap="rnd"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Прямая со стрелкой 25"/>
          <p:cNvCxnSpPr/>
          <p:nvPr/>
        </p:nvCxnSpPr>
        <p:spPr>
          <a:xfrm>
            <a:off x="772920" y="4508280"/>
            <a:ext cx="1080" cy="71964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47" name="Прямая со стрелкой 27"/>
          <p:cNvCxnSpPr/>
          <p:nvPr/>
        </p:nvCxnSpPr>
        <p:spPr>
          <a:xfrm>
            <a:off x="2633400" y="4508280"/>
            <a:ext cx="1080" cy="719640"/>
          </a:xfrm>
          <a:prstGeom prst="straightConnector1">
            <a:avLst/>
          </a:prstGeom>
          <a:ln cap="rnd" w="3168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3300"/>
                </a:solidFill>
                <a:latin typeface="Trebuchet MS"/>
              </a:rPr>
              <a:t>Эксперты ( не более 2 чел.)</a:t>
            </a:r>
            <a:br>
              <a:rPr sz="3100"/>
            </a:br>
            <a:br>
              <a:rPr sz="3100"/>
            </a:br>
            <a:endParaRPr b="0" lang="en-US" sz="31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60920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</a:t>
            </a:r>
            <a:r>
              <a:rPr b="0" lang="ru-RU" sz="2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ля впервые аттестуемых: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ый эксперт (1 чел.)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м.директора ОУ (1 чел.) по месту работы аттестуемого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3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Для подтверждающих категорию: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ОУ (1 чел.)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3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ттестуемый имеет право потребовать независимых экспертов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C9D2-3597-4CD9-A510-7CC52E43207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3"/>
          <p:cNvSpPr/>
          <p:nvPr/>
        </p:nvSpPr>
        <p:spPr>
          <a:xfrm>
            <a:off x="250920" y="333360"/>
            <a:ext cx="8497800" cy="619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висимые эксперт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е направля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педагогическим работникам (при повторной аттест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наличии у н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стижений на профессиональ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курсах, предметных олимпиадах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сударственных, отраслевых нагр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К руководящим работникам, аттестуем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по педагогическим должностям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независим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эксперты направляются обязательно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448920"/>
            <a:ext cx="633564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rebuchet MS"/>
              </a:rPr>
              <a:t>Важно!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55640" y="155736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ысшей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тегории  дополнительно проводится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ертиза инновационных разработок, если отсутствует инновационная деятельность аттестуемых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1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100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амках методических конкурсов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100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учно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практических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нференций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10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республиканского,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едерального,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ждународного уровней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8100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экспериментальная работ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416720" cy="5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ечень документов </a:t>
            </a: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бходимых для ИС: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1628640"/>
            <a:ext cx="76327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онный лист старый для высшей категории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результативности профессиональной деятельности для всех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экспертиз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товерение о курсах , заверенные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ензия или отзыв на  авторские разработки ( или  документ об участии в методическом конкурсе республиканского уровня),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идетельство или сертификат об экспериментальной работе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ждающий документ об участии детей в олимпиадах, конкурсах, соревнованиях   всероссийского уровня или в региональном этапе данных мероприятий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425520" indent="-343080">
              <a:lnSpc>
                <a:spcPct val="6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BC40-D7E2-44EA-812C-81548E94E88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"/>
          <p:cNvSpPr/>
          <p:nvPr/>
        </p:nvSpPr>
        <p:spPr>
          <a:xfrm>
            <a:off x="250920" y="260280"/>
            <a:ext cx="7921440" cy="630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>
              <a:lnSpc>
                <a:spcPct val="10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каз Министерства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науки Республики Татарст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№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5145/14 от 11.09.2014 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О проведении аттестаци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х рабо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разовательных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спублики Татарстан  в 2014 г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468360" y="260280"/>
            <a:ext cx="794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иональные нормативные 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1277-34CD-4440-86FD-95222A12D56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Trebuchet MS"/>
              </a:rPr>
              <a:t>НОРМАТИВНЫЕ АКТЫ МОи РТ</a:t>
            </a:r>
            <a:endParaRPr b="0" lang="en-US" sz="3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Приказ МО и Н РТ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№ 4231/14 от 25.07.2014 г.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«Об утверждении Административного регламента по проведению аттестации педагогических  работников  Республики Татарстан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</a:rPr>
              <a:t>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Приказ МО и Н РТ  № 597/14 от 11.02.2014 г. «Об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кспертных комиссиях по муниципальным образованиям Республики Татарстан аттестационной комиссии МОиН РТ»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0AB4-39C2-4380-8FAE-9EF3F5EA515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ОРМАТИВНЫЕ АКТЫ МОиН РТ</a:t>
            </a:r>
            <a:endParaRPr b="0" lang="en-US" sz="3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Приказ МО и Н РТ № 3669/14 от 14 июля </a:t>
            </a: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2014 г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«Об утверждении Положения о формах и процедурах аттестации педагогических работников РТ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rebuchet MS"/>
              </a:rPr>
              <a:t>(В 2015 году изменится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49F2-DF94-4730-88DE-2FE7ABD4AC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"/>
          <p:cNvSpPr/>
          <p:nvPr/>
        </p:nvSpPr>
        <p:spPr>
          <a:xfrm>
            <a:off x="250920" y="476280"/>
            <a:ext cx="8642160" cy="597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ГИОНАЛЬНЫЕ  НОРМАТИВНЫЕ  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евое Соглашение между МО и Н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Татарским рескомом профсоюза работ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родного образования и науки на 2014-2016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ложение №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Права и льготы работников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спублики Татарс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и подготовке и проведении аттестации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1"/>
          <p:cNvSpPr/>
          <p:nvPr/>
        </p:nvSpPr>
        <p:spPr>
          <a:xfrm>
            <a:off x="179280" y="2133720"/>
            <a:ext cx="81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ИХ  КАДРОВ -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 ГАРАНТИЯ  КАЧЕСТВА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http://kunelradio.ru/media/uploads/2012/08/01/pervoklaski.jpg"/>
          <p:cNvPicPr/>
          <p:nvPr/>
        </p:nvPicPr>
        <p:blipFill>
          <a:blip r:embed="rId1"/>
          <a:stretch/>
        </p:blipFill>
        <p:spPr>
          <a:xfrm>
            <a:off x="0" y="-41400"/>
            <a:ext cx="3024360" cy="199548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1" name="Picture 5" descr="В этом году значительная часть преподавателей вузов останется без работы &quot; Общество &quot; K-News: Новости Кыргызстана, Киргизии"/>
          <p:cNvPicPr/>
          <p:nvPr/>
        </p:nvPicPr>
        <p:blipFill>
          <a:blip r:embed="rId2"/>
          <a:stretch/>
        </p:blipFill>
        <p:spPr>
          <a:xfrm>
            <a:off x="5899320" y="4745160"/>
            <a:ext cx="28159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раслевое соглашение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  профсоюзом работников образования</a:t>
            </a:r>
            <a:br>
              <a:rPr sz="2700"/>
            </a:br>
            <a:br>
              <a:rPr sz="27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95280" y="1753920"/>
            <a:ext cx="8748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ания дл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ереноса срок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аттестации на подтверждение СЗД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н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прощенных фор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спертизы при наличии заслуг, отраслевых и государственных наград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хранени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валификационных категорий на разных должностях (учебных предметах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C9DA-3800-4725-B0AD-A8E8DC155D9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B6D7-EA96-4149-89E4-520DD96AE54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3"/>
          <p:cNvSpPr/>
          <p:nvPr/>
        </p:nvSpPr>
        <p:spPr>
          <a:xfrm>
            <a:off x="250920" y="260280"/>
            <a:ext cx="8570880" cy="622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МО и Н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20 января 2011 г. № 63/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«Об утверждении Примерного поло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 аттестации руководител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(директоров, заведующих, начальнико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тельных 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0A9A-9593-4182-9F19-5F71676E645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"/>
          <p:cNvSpPr/>
          <p:nvPr/>
        </p:nvSpPr>
        <p:spPr>
          <a:xfrm>
            <a:off x="179280" y="333360"/>
            <a:ext cx="8713800" cy="626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РЕГИОНАЛЬНЫЕ НОРМАТИВНЫЕ  АК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казы Министерства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спублики Татарст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19 января 2011 г. № 47/11 «Об утвер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ожения об аттестационной комиссии МО и Н Р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12 января 2012 г. № 107/12 «Об аттест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и МО и Н Р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300F-B58E-4A4D-BF09-2CD4CAD2953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"/>
          <p:cNvSpPr/>
          <p:nvPr/>
        </p:nvSpPr>
        <p:spPr>
          <a:xfrm>
            <a:off x="179280" y="476280"/>
            <a:ext cx="7561440" cy="3889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 экспертной коми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подготовке и проведению аттест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 соответствие занимаемой должности в 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учить зам. директоров, председ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тестационных комиссии У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Контролировать проведение оценки знаний, аттест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Контролировать разработку локальных а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СЗД (направлено официаль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8FB9-642B-4478-AECA-20D55293A9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250920" y="333360"/>
            <a:ext cx="8642160" cy="614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 экспертной комиссии  по подгот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проведению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  квалификационные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ить список педагогов, у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ок действия категорий заканчивается в 201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формировать их о сроках и условиях подачи заявлений  на аттестаци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т. ч. Для подтверждения  имеющейся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Заранее обязаны были направить их на профессион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иро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В 2015 году 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будет после заявления для вс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5429-4C5B-40E7-8CB2-3632580D326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34560" y="765000"/>
            <a:ext cx="8209080" cy="7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РАФИК  АТТЕСТАЦИИ  НА  СЗД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целом не должно быть графика</a:t>
            </a:r>
            <a:br>
              <a:rPr sz="2800"/>
            </a:br>
            <a:br>
              <a:rPr sz="25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78920" y="1774800"/>
            <a:ext cx="76057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ентябрь 2014 года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формление, представлений  и списков (по форме протокол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ной комиссий  в программ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L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казов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 1 октября по 10 октября 2014 г.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оценки заний в присутствии представителей экспертной комиссии АК  МО И Н  РТ, проведение заседа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ABF5-39AF-49E1-8B3A-58D2275B065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1680" y="177480"/>
            <a:ext cx="81374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ЗАЯВИТЕЛЬНАЯ  АТТЕСТАЦИЯ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НА  ПЕРВУЮ  И ВЫСШУЮ  КАТЕГОРИИ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в 2014 г.</a:t>
            </a:r>
            <a:br>
              <a:rPr sz="2800"/>
            </a:br>
            <a:r>
              <a:rPr b="0" lang="ru-RU" sz="25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                     </a:t>
            </a:r>
            <a:br>
              <a:rPr sz="2500"/>
            </a:b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7640" y="1996560"/>
            <a:ext cx="7777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457200" algn="just">
              <a:lnSpc>
                <a:spcPct val="8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тябрь 2014 г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трализованный прием в ИС заявлений на аттестацию работников, у которых срок действия квалификационных категорий заканчивается в 2015 г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96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9640" indent="-457200" algn="just">
              <a:lnSpc>
                <a:spcPct val="8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ябрь 2014 г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экспертных групп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96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9640" indent="-457200" algn="just">
              <a:lnSpc>
                <a:spcPct val="80000"/>
              </a:lnSpc>
              <a:spcBef>
                <a:spcPts val="1001"/>
              </a:spcBef>
              <a:buClr>
                <a:srgbClr val="e6b91e"/>
              </a:buClr>
              <a:buSzPct val="80000"/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абрь 2014г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правление договоров на экспертов в МО и Н РТ, проведение заседания комиссии, вывешивание на сайт приказа приказ </a:t>
            </a: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иН РТ от 11.09.2014 г. № 5143/14  «О внесении изменении в порядок оформления результатов аттестации педработников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539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5256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Trebuchet MS"/>
              </a:rPr>
              <a:t>Общая задача</a:t>
            </a: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9640" y="1915920"/>
            <a:ext cx="878544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rebuchet MS"/>
              </a:rPr>
              <a:t>Сохранение и дальнейшее совершенствование региональной модели аттестации педагогических кадров в соответствии с современными требованиями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7898-7508-4655-8C3F-C0DBEC23F00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7D6F-3BD3-4401-A59D-132D1B47055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ttp//www.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on.tatar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Раздел/ОБРАЗОВАНИЕ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«Педагогическая аттестация»</a:t>
            </a: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Тел. 294-95-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468360" y="260280"/>
            <a:ext cx="794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айт Министерства образования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 науки Республики Татар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0" name="Диаграмма 1"/>
          <p:cNvGraphicFramePr/>
          <p:nvPr/>
        </p:nvGraphicFramePr>
        <p:xfrm>
          <a:off x="539640" y="765000"/>
          <a:ext cx="7439040" cy="473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765000"/>
                    <a:ext cx="7439040" cy="47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457200" y="401760"/>
            <a:ext cx="82486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Диаграмма 2"/>
          <p:cNvGraphicFramePr/>
          <p:nvPr/>
        </p:nvGraphicFramePr>
        <p:xfrm>
          <a:off x="468360" y="692280"/>
          <a:ext cx="7093080" cy="38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3" name="Диаграмма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92280"/>
                    <a:ext cx="709308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Диаграмма 1"/>
          <p:cNvGraphicFramePr/>
          <p:nvPr/>
        </p:nvGraphicFramePr>
        <p:xfrm>
          <a:off x="-324000" y="692280"/>
          <a:ext cx="8017200" cy="58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692280"/>
                    <a:ext cx="801720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6CF0-7EE2-4129-B8A4-C1AB27DCD56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87760" y="4646160"/>
            <a:ext cx="3755880" cy="2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0" lang="ru-RU" sz="2500" spc="-1" strike="noStrike">
                <a:solidFill>
                  <a:srgbClr val="0000ff"/>
                </a:solidFill>
                <a:latin typeface="Trebuchet MS"/>
              </a:rPr>
              <a:t>         </a:t>
            </a:r>
            <a:endParaRPr b="0" lang="en-US" sz="2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99640" y="296640"/>
            <a:ext cx="7272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rebuchet MS"/>
              </a:rPr>
              <a:t>Министерство образования и науки Республики Татарстан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Скругленный прямоугольник 15"/>
          <p:cNvSpPr/>
          <p:nvPr/>
        </p:nvSpPr>
        <p:spPr>
          <a:xfrm>
            <a:off x="3780000" y="4208400"/>
            <a:ext cx="5040000" cy="213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8" descr="Герб Республики Татарстан"/>
          <p:cNvPicPr/>
          <p:nvPr/>
        </p:nvPicPr>
        <p:blipFill>
          <a:blip r:embed="rId1"/>
          <a:stretch/>
        </p:blipFill>
        <p:spPr>
          <a:xfrm>
            <a:off x="250920" y="115920"/>
            <a:ext cx="793800" cy="720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http://mon.tatarstan.ru/file/3.10.13%20%D0%92%D0%B8%D0%B4%20%D0%BD%D0%B0%20%D0%9A%D1%80%D0%B5%D0%BC%D0%BB%D1%8C_%D0%BC%D0%B8%D0%BD%20%D0%BE%D0%B1%D1%80%D0%B0%D0%B7_4578_.jpg"/>
          <p:cNvPicPr/>
          <p:nvPr/>
        </p:nvPicPr>
        <p:blipFill>
          <a:blip r:embed="rId2"/>
          <a:stretch/>
        </p:blipFill>
        <p:spPr>
          <a:xfrm>
            <a:off x="1187280" y="2489040"/>
            <a:ext cx="5437440" cy="3383280"/>
          </a:xfrm>
          <a:prstGeom prst="rect">
            <a:avLst/>
          </a:prstGeom>
          <a:ln w="0">
            <a:noFill/>
          </a:ln>
        </p:spPr>
      </p:pic>
      <p:pic>
        <p:nvPicPr>
          <p:cNvPr id="402" name="Прямоугольник 1" descr=""/>
          <p:cNvPicPr/>
          <p:nvPr/>
        </p:nvPicPr>
        <p:blipFill>
          <a:blip r:embed="rId3"/>
          <a:stretch/>
        </p:blipFill>
        <p:spPr>
          <a:xfrm>
            <a:off x="2505240" y="1116000"/>
            <a:ext cx="4633920" cy="52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Основополагающие  документы для проведения аттестации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Объект 3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962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915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Trebuchet MS"/>
              </a:rPr>
              <a:t>Основополагающие  документы для проведения аттестации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6" name="Объект 3" descr=""/>
          <p:cNvPicPr/>
          <p:nvPr/>
        </p:nvPicPr>
        <p:blipFill>
          <a:blip r:embed="rId1"/>
          <a:stretch/>
        </p:blipFill>
        <p:spPr>
          <a:xfrm>
            <a:off x="176040" y="2133720"/>
            <a:ext cx="7651800" cy="390672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ая соединительная линия 6"/>
          <p:cNvSpPr/>
          <p:nvPr/>
        </p:nvSpPr>
        <p:spPr>
          <a:xfrm flipH="1">
            <a:off x="271080" y="2708280"/>
            <a:ext cx="196920" cy="0"/>
          </a:xfrm>
          <a:prstGeom prst="line">
            <a:avLst/>
          </a:prstGeom>
          <a:ln cap="rnd" w="381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7"/>
          <p:cNvSpPr/>
          <p:nvPr/>
        </p:nvSpPr>
        <p:spPr>
          <a:xfrm flipH="1">
            <a:off x="297000" y="4076640"/>
            <a:ext cx="242640" cy="0"/>
          </a:xfrm>
          <a:prstGeom prst="line">
            <a:avLst/>
          </a:prstGeom>
          <a:ln cap="rnd" w="381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8"/>
          <p:cNvSpPr/>
          <p:nvPr/>
        </p:nvSpPr>
        <p:spPr>
          <a:xfrm flipH="1" flipV="1">
            <a:off x="296640" y="5222880"/>
            <a:ext cx="261720" cy="6480"/>
          </a:xfrm>
          <a:prstGeom prst="line">
            <a:avLst/>
          </a:prstGeom>
          <a:ln cap="rnd" w="381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10"/>
          <p:cNvSpPr/>
          <p:nvPr/>
        </p:nvSpPr>
        <p:spPr>
          <a:xfrm>
            <a:off x="271440" y="2708280"/>
            <a:ext cx="28440" cy="2514600"/>
          </a:xfrm>
          <a:prstGeom prst="line">
            <a:avLst/>
          </a:prstGeom>
          <a:ln cap="rnd" w="381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ый документ  МО и Н РТ,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ющий задачи по аттестации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2014/2015 учебный год</a:t>
            </a:r>
            <a:endParaRPr b="0" lang="en-US" sz="2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7416720" cy="32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каз МО и НРТ от 23 июля 2014 г. № 4206/14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итогах аттестации педагогических работников образования РТ в 2013/2014 учебном году и задачах по аттестации на 2014/2015 учебный год»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01:08Z</dcterms:created>
  <dc:creator>admin</dc:creator>
  <dc:description/>
  <dc:language>en-US</dc:language>
  <cp:lastModifiedBy>Admin IK</cp:lastModifiedBy>
  <cp:lastPrinted>2014-08-27T17:24:32Z</cp:lastPrinted>
  <dcterms:modified xsi:type="dcterms:W3CDTF">2014-09-28T19:15:58Z</dcterms:modified>
  <cp:revision>275</cp:revision>
  <dc:subject/>
  <dc:title>Слайд 1</dc:title>
</cp:coreProperties>
</file>